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D27-DDCC-4213-A884-80D35495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6FE-016D-43AA-9131-E00FA07E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E3E-89E4-4D03-92F2-61764120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2EA-29F0-41A5-B53F-EB4CC4A6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81D-9C72-4612-A26B-FB2A6D6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C27-FE4B-48DC-BC0F-4AFBFF80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C4C-75E6-4517-AA3A-2742C74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60F-C3FE-4039-9A7D-49DA93A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FF6-DEFF-4E61-904C-5BBF8CEE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80C-F1AE-4A2C-96E5-0BD1F4B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0C6-46BC-4A7F-BFBB-E2CC048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F3C-DD5B-43E9-BA1D-1F7B443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EDD-387E-4A79-8856-EBFB3AB346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.co/imgres?imgurl=http://planetajavo.files.wordpress.com/2007/12/tramites.jpg&amp;imgrefurl=http://www.contafin.cl/%3FAreas_de_Servicio%2526nbsp%253B%2526nbsp%253B&amp;h=359&amp;w=363&amp;sz=21&amp;hl=es&amp;start=4&amp;usg=__J94t1yMHbxPWx3Tylb28XfDmHI4=&amp;tbnid=4-_zBTunW2RxKM:&amp;tbnh=120&amp;tbnw=121&amp;prev=/images%3Fq%3Dtramit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428640"/>
            <a:ext cx="32353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00"/>
                </a:solidFill>
                <a:latin typeface="Arial"/>
              </a:rPr>
              <a:t>SALA </a:t>
            </a:r>
            <a:br>
              <a:rPr sz="7200"/>
            </a:br>
            <a:r>
              <a:rPr b="1" lang="es-MX" sz="1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333360"/>
            <a:ext cx="3602160" cy="952560"/>
          </a:xfrm>
          <a:prstGeom prst="rect">
            <a:avLst/>
          </a:prstGeom>
          <a:ln w="0">
            <a:noFill/>
          </a:ln>
        </p:spPr>
      </p:pic>
      <p:sp>
        <p:nvSpPr>
          <p:cNvPr id="43" name="Line 6"/>
          <p:cNvSpPr/>
          <p:nvPr/>
        </p:nvSpPr>
        <p:spPr>
          <a:xfrm>
            <a:off x="684360" y="1557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3924360" y="1738440"/>
            <a:ext cx="4859280" cy="4930560"/>
          </a:xfrm>
          <a:prstGeom prst="rect">
            <a:avLst/>
          </a:prstGeom>
          <a:ln w="0">
            <a:noFill/>
          </a:ln>
        </p:spPr>
      </p:pic>
      <p:sp>
        <p:nvSpPr>
          <p:cNvPr id="45" name="Line 10"/>
          <p:cNvSpPr/>
          <p:nvPr/>
        </p:nvSpPr>
        <p:spPr>
          <a:xfrm>
            <a:off x="356220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140360" y="4046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CIA                    DE LA ECONOMÍA SOLI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000" y="5733720"/>
            <a:ext cx="8890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ILVIO SAÚL SUÁREZ</a:t>
            </a:r>
            <a:br>
              <a:rPr sz="36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esidente Junta Directiva Confecoop Cauc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5084640"/>
            <a:ext cx="2305080" cy="609840"/>
          </a:xfrm>
          <a:prstGeom prst="rect">
            <a:avLst/>
          </a:prstGeom>
          <a:ln w="0">
            <a:noFill/>
          </a:ln>
        </p:spPr>
      </p:pic>
      <p:sp>
        <p:nvSpPr>
          <p:cNvPr id="87" name="Line 4"/>
          <p:cNvSpPr/>
          <p:nvPr/>
        </p:nvSpPr>
        <p:spPr>
          <a:xfrm>
            <a:off x="1187280" y="5734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903680" y="32439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903680" y="32439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3428640"/>
            <a:ext cx="32353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00"/>
                </a:solidFill>
                <a:latin typeface="Arial"/>
              </a:rPr>
              <a:t>SALA </a:t>
            </a:r>
            <a:r>
              <a:rPr b="1" lang="es-MX" sz="1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ogodescentralizadas-sep-08"/>
          <p:cNvPicPr/>
          <p:nvPr/>
        </p:nvPicPr>
        <p:blipFill>
          <a:blip r:embed="rId1"/>
          <a:stretch/>
        </p:blipFill>
        <p:spPr>
          <a:xfrm>
            <a:off x="395280" y="333360"/>
            <a:ext cx="360216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3962520" y="1844640"/>
            <a:ext cx="4930560" cy="4842000"/>
          </a:xfrm>
          <a:prstGeom prst="rect">
            <a:avLst/>
          </a:prstGeom>
          <a:ln w="0">
            <a:noFill/>
          </a:ln>
        </p:spPr>
      </p:pic>
      <p:sp>
        <p:nvSpPr>
          <p:cNvPr id="50" name="Line 10"/>
          <p:cNvSpPr/>
          <p:nvPr/>
        </p:nvSpPr>
        <p:spPr>
          <a:xfrm>
            <a:off x="684360" y="1557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356220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140360" y="4046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CIA                    DE LA ECONOMÍA SOLI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3428640"/>
            <a:ext cx="32353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00"/>
                </a:solidFill>
                <a:latin typeface="Arial"/>
              </a:rPr>
              <a:t>SALA </a:t>
            </a:r>
            <a:br>
              <a:rPr sz="7200"/>
            </a:br>
            <a:r>
              <a:rPr b="1" lang="es-MX" sz="1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333360"/>
            <a:ext cx="3602160" cy="95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4140360" y="4046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CIA                    DE LA ECONOMÍA SOLI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84360" y="1557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067280" y="1989000"/>
            <a:ext cx="50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cc"/>
                </a:solidFill>
                <a:latin typeface="Calibri"/>
              </a:rPr>
              <a:t>REPORTE DE      INFORM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56220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04000" y="3284640"/>
            <a:ext cx="2160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66cc"/>
                </a:solidFill>
                <a:latin typeface="Calibri"/>
              </a:rPr>
              <a:t>Orientación sobre el funcionamiento del software de reporte Sigc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66cc"/>
                </a:solidFill>
                <a:latin typeface="Calibri"/>
              </a:rPr>
              <a:t>Soporte para          el reporte de información financi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4140360" y="3213000"/>
            <a:ext cx="2535120" cy="2371680"/>
            <a:chOff x="4140360" y="3213000"/>
            <a:chExt cx="2535120" cy="2371680"/>
          </a:xfrm>
        </p:grpSpPr>
        <p:pic>
          <p:nvPicPr>
            <p:cNvPr id="61" name="Picture 12" descr="tramite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284720" y="3213000"/>
              <a:ext cx="239076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4"/>
            <p:cNvSpPr/>
            <p:nvPr/>
          </p:nvSpPr>
          <p:spPr>
            <a:xfrm>
              <a:off x="4140360" y="3429000"/>
              <a:ext cx="12952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5480" y="2924280"/>
            <a:ext cx="7562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00"/>
                </a:solidFill>
                <a:latin typeface="Arial"/>
              </a:rPr>
              <a:t>INSCRIPCI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2556000" y="333360"/>
            <a:ext cx="3600360" cy="952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124000" y="5373720"/>
            <a:ext cx="48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CIA                    DE LA ECONOMÍA SOLI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684360" y="1557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1258920" y="515772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000" y="5733720"/>
            <a:ext cx="8890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NRIQUE VALENCIA MONTOYA</a:t>
            </a:r>
            <a:br>
              <a:rPr sz="48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te de la Economía Soli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5084640"/>
            <a:ext cx="2305080" cy="609840"/>
          </a:xfrm>
          <a:prstGeom prst="rect">
            <a:avLst/>
          </a:prstGeom>
          <a:ln w="0">
            <a:noFill/>
          </a:ln>
        </p:spPr>
      </p:pic>
      <p:sp>
        <p:nvSpPr>
          <p:cNvPr id="70" name="Line 7"/>
          <p:cNvSpPr/>
          <p:nvPr/>
        </p:nvSpPr>
        <p:spPr>
          <a:xfrm>
            <a:off x="1187280" y="5734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5805000"/>
            <a:ext cx="8785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DGAR PINTO HERNÁNDEZ</a:t>
            </a:r>
            <a:br>
              <a:rPr sz="36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te Delegado -  Delegatura 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5084640"/>
            <a:ext cx="2305080" cy="60984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>
            <a:off x="1187280" y="5734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" y="5733720"/>
            <a:ext cx="8890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JUAN ALBERTO CORTES</a:t>
            </a:r>
            <a:br>
              <a:rPr sz="36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perintendente Delegado – Delegatura Asoc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5084640"/>
            <a:ext cx="230508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Line 4"/>
          <p:cNvSpPr/>
          <p:nvPr/>
        </p:nvSpPr>
        <p:spPr>
          <a:xfrm>
            <a:off x="1187280" y="5734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" y="5733720"/>
            <a:ext cx="8890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GERARDO ANTONIO MERA</a:t>
            </a:r>
            <a:br>
              <a:rPr sz="36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rector Ejecutivo Confecoop Cau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5084640"/>
            <a:ext cx="230508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Line 4"/>
          <p:cNvSpPr/>
          <p:nvPr/>
        </p:nvSpPr>
        <p:spPr>
          <a:xfrm>
            <a:off x="1187280" y="5734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000" y="5733720"/>
            <a:ext cx="8890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LUIS EDUARDO OTERO </a:t>
            </a:r>
            <a:br>
              <a:rPr sz="36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irector Nacional Organizaciones Solida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Logodescentralizadas-sep-08"/>
          <p:cNvPicPr/>
          <p:nvPr/>
        </p:nvPicPr>
        <p:blipFill>
          <a:blip r:embed="rId1"/>
          <a:stretch/>
        </p:blipFill>
        <p:spPr>
          <a:xfrm>
            <a:off x="395280" y="5084640"/>
            <a:ext cx="2305080" cy="60984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1187280" y="5734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903680" y="32439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3680" y="32439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2:47:27Z</dcterms:created>
  <dc:creator>ostaaden</dc:creator>
  <dc:description/>
  <dc:language>en-US</dc:language>
  <cp:lastModifiedBy>Sennia Maria Diaz Salazar</cp:lastModifiedBy>
  <cp:lastPrinted>2013-05-24T21:28:57Z</cp:lastPrinted>
  <dcterms:modified xsi:type="dcterms:W3CDTF">2013-05-24T21:29:43Z</dcterms:modified>
  <cp:revision>87</cp:revision>
  <dc:subject/>
  <dc:title>SALA  2</dc:title>
</cp:coreProperties>
</file>